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C6D-0007-462D-A6F5-42C4A1CD7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C01-6308-4A54-A237-1A1A855B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224-E015-40F5-9836-C6E0D262F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77C4-BEAA-4F95-96B4-2FD3DDBAC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A81-29D8-4574-8D99-847C9E0E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0761-6308-4D9B-A646-1104B723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0FF-E83A-4230-8B24-506ECF1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CE99-092D-4424-9E8F-9CF6A2CE0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F23-BFDC-409F-A09B-7C16B1C4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D001-C8AA-47B4-B88C-B59CC737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5DCC-7136-4893-82B2-6182FFB4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30F1-1114-4844-857C-DF88BB92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5DF5-038E-4BCE-8A3A-9730F17B70E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lusPhon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553840" y="13860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19040" y="211788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391520" y="4572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UI 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170640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819520" y="505908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265560" y="140184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i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914640" y="1397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tp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73392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1706400"/>
            <a:ext cx="38088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2973600" y="280368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3042720" y="3718080"/>
            <a:ext cx="98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4659480" y="370044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Util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4643640" y="27986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Op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3154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809520" y="3154320"/>
            <a:ext cx="83844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3840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589760" y="2798640"/>
            <a:ext cx="81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Medi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438280" y="2925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167640" y="467820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Hand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81080" y="3154320"/>
            <a:ext cx="114300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0687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038120" y="399240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2176560" y="5668920"/>
            <a:ext cx="93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H32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4089960" y="5668920"/>
            <a:ext cx="7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bSi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5603760" y="4678200"/>
            <a:ext cx="70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pCo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59056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9831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4038480" y="4982760"/>
            <a:ext cx="6098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114800" y="483084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6324480" y="48308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438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438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980720" y="2438280"/>
            <a:ext cx="1143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371600" y="2362320"/>
            <a:ext cx="60948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304920"/>
            <a:ext cx="32004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Core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23623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2819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438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2286000"/>
            <a:ext cx="99072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65760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828800" y="2743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4038480" y="190476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1972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505320" y="1219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3809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1219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2193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914040" y="28195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1295280" y="35812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124080"/>
            <a:ext cx="838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1676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523880" y="58672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        </a:t>
            </a: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113760" y="4457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952880"/>
            <a:ext cx="9907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Accept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5105520"/>
            <a:ext cx="121896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rot="10800000">
            <a:off x="609480" y="60195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609480" y="61718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L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 rot="10800000">
            <a:off x="60948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SUM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 rot="10800000">
            <a:off x="609480" y="647676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rot="5400000">
            <a:off x="151560" y="6172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520" y="5714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715000"/>
            <a:ext cx="10666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14479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828800" y="3276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1676520" y="5410080"/>
            <a:ext cx="761760" cy="15264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1828800" y="54100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3505320" y="39625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AIL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0" y="4267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047760" y="36568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895480" y="289548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4572000" y="190476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4724280" y="190440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4648320" y="1676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16765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809880" y="35812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380988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2004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5410080" y="3276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105160" y="2590560"/>
            <a:ext cx="6858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733920"/>
            <a:ext cx="83844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3886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33412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42670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601992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2670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4952880" y="4343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7315200" y="419112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DIAL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594360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662940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7010280" y="3809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781680" y="3352680"/>
            <a:ext cx="76212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858000" y="15238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676160" y="15238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15238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438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324480" y="266688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629400" y="30481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3657600"/>
            <a:ext cx="60948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rot="16200000">
            <a:off x="7467480" y="3809880"/>
            <a:ext cx="609840" cy="15264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7619760" y="380988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_C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7848720" y="30481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==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7772400" y="2437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92468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924680" y="24379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112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8153280" y="3352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7848000" y="472428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7467480" y="5029200"/>
            <a:ext cx="76212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DTM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848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8153280" y="41144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077320" y="838080"/>
            <a:ext cx="76176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048120" y="9144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3048120" y="9144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962480" y="4838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7848720" y="5334120"/>
            <a:ext cx="91440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굴림"/>
              </a:rPr>
              <a:t>Cmd Make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7620120" y="5943600"/>
            <a:ext cx="1143000" cy="380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8381880" y="5486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 rot="16200000">
            <a:off x="7238880" y="5638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6553080" y="5029200"/>
            <a:ext cx="83844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md Drop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4876920"/>
            <a:ext cx="761760" cy="1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ffer 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5638680" y="4724280"/>
            <a:ext cx="60984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  <a:ea typeface="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248160" y="4952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5105520" y="6095880"/>
            <a:ext cx="114300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INGBACK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rot="10800000">
            <a:off x="7391520" y="6324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_BA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59436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43040" y="617184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23852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23888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2971800" y="57913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200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373392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66652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rot="5400000">
            <a:off x="1371240" y="624852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 rot="5400000">
            <a:off x="1523880" y="6248160"/>
            <a:ext cx="609480" cy="15264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200 OK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66294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38280" y="6477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438280" y="62481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6629400" y="594324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4876920"/>
            <a:ext cx="83808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Busy?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rot="16200000">
            <a:off x="4876560" y="571428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19720" y="5410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334120" y="5943600"/>
            <a:ext cx="609480" cy="152280"/>
          </a:xfrm>
          <a:custGeom>
            <a:avLst/>
            <a:gdLst>
              <a:gd name="textAreaLeft" fmla="*/ 0 w 609480"/>
              <a:gd name="textAreaRight" fmla="*/ 609840 w 6094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6324120" y="5181120"/>
            <a:ext cx="30492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18112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28840" y="52578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19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95288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723920" y="4648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895120" y="5410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895480" y="32004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438280" y="3200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3276720" y="5029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276720" y="46483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3200400" y="434304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228600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5715000" y="24382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11430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0" y="32004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2666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638680" y="556236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809880" y="609588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7238880" y="2209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31240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IAL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6248520" y="41911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106668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27672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>
            <a:off x="3581280" y="45720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2819520" y="4800240"/>
            <a:ext cx="685800" cy="228600"/>
          </a:xfrm>
          <a:prstGeom prst="hexagon">
            <a:avLst>
              <a:gd name="adj" fmla="val 22222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_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3581280" y="48769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BUSY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5334120"/>
            <a:ext cx="838440" cy="228600"/>
          </a:xfrm>
          <a:prstGeom prst="hexagon">
            <a:avLst>
              <a:gd name="adj" fmla="val 2716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2971800" y="6400800"/>
            <a:ext cx="838080" cy="228600"/>
          </a:xfrm>
          <a:prstGeom prst="hexagon">
            <a:avLst>
              <a:gd name="adj" fmla="val 2715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6324480" y="62485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INGBACK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1562040" y="447012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ORDER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8534520" y="3809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8763120" y="99036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200400" y="380880"/>
            <a:ext cx="281952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Media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1981080" y="182880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ILENC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590920" y="1905120"/>
            <a:ext cx="533160" cy="152280"/>
          </a:xfrm>
          <a:custGeom>
            <a:avLst/>
            <a:gdLst>
              <a:gd name="textAreaLeft" fmla="*/ 0 w 533160"/>
              <a:gd name="textAreaRight" fmla="*/ 533520 w 5331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3429000" y="1828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312408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0" y="18288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rot="10800000">
            <a:off x="3809520" y="2209680"/>
            <a:ext cx="838440" cy="15264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_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28954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411480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580920" y="22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5146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3276720"/>
            <a:ext cx="6094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5181480" y="1905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477120" y="19051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981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25146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743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6095880" y="3429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274320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2096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24480" y="29714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95880" y="2437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105160" y="2286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4800600" y="49528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BOT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981080" y="4876920"/>
            <a:ext cx="83844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 rot="5400000">
            <a:off x="20570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36232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24382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6200000">
            <a:off x="190476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1828800" y="35812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133720" y="3809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133720" y="2286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rot="5400000">
            <a:off x="632412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324480" y="50292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5410080" y="5181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51055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809880" y="51055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ver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05320" y="51814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4495680" y="5181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 rot="5400000">
            <a:off x="4571640" y="26668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4952880" y="3124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11480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orwar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819160" y="434340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0" y="358128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3809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2438280" y="45720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40384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35053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1148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666880" y="4114440"/>
            <a:ext cx="1219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114800" y="2361960"/>
            <a:ext cx="6858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4572000" y="4724280"/>
            <a:ext cx="457200" cy="15264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114440" y="4266720"/>
            <a:ext cx="6858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5181480" y="4800600"/>
            <a:ext cx="457200" cy="152280"/>
          </a:xfrm>
          <a:custGeom>
            <a:avLst/>
            <a:gdLst>
              <a:gd name="textAreaLeft" fmla="*/ 0 w 457200"/>
              <a:gd name="textAreaRight" fmla="*/ 457560 w 457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3809880"/>
            <a:ext cx="4572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lea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410080" y="40384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867280" y="3733560"/>
            <a:ext cx="609840" cy="152280"/>
          </a:xfrm>
          <a:custGeom>
            <a:avLst/>
            <a:gdLst>
              <a:gd name="textAreaLeft" fmla="*/ 0 w 609840"/>
              <a:gd name="textAreaRight" fmla="*/ 610200 w 6098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O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5638680" y="32763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3581280" y="32767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H="1" flipV="1">
            <a:off x="2514240" y="2362320"/>
            <a:ext cx="106668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PP Application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24382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198108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2971800" y="24382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2666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80988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24382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TON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3848040" y="19429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umber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10666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267080" y="1371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4495680" y="1371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4648320" y="25146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638680" y="2438280"/>
            <a:ext cx="8384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25909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6705720" y="2438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5714640" y="28191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Fai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1640" y="2895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 rot="5400000">
            <a:off x="6552720" y="327672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 rot="5400000">
            <a:off x="6666840" y="3390840"/>
            <a:ext cx="990720" cy="152280"/>
          </a:xfrm>
          <a:custGeom>
            <a:avLst/>
            <a:gdLst>
              <a:gd name="textAreaLeft" fmla="*/ 0 w 990720"/>
              <a:gd name="textAreaRight" fmla="*/ 991080 w 9907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6705720" y="4876920"/>
            <a:ext cx="99036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 rot="5400000">
            <a:off x="3962160" y="3276360"/>
            <a:ext cx="762120" cy="15264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3962520" y="403848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3733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80024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7162920" y="3962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904760" y="2819520"/>
            <a:ext cx="20574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 rot="10800000">
            <a:off x="5714640" y="487656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d 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 rot="10800000">
            <a:off x="5714640" y="525744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angup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495320" y="2895120"/>
            <a:ext cx="121932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4267080" y="4343400"/>
            <a:ext cx="144792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49528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POWER R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 rot="5400000">
            <a:off x="1143000" y="33526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OM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1600200" y="38862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2362320" y="502920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jec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0" y="5334120"/>
            <a:ext cx="685800" cy="15228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 B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3048120" y="4343040"/>
            <a:ext cx="10666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3886200" y="5257800"/>
            <a:ext cx="8380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OOK_OF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2971800" y="54100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238880" y="5410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228600" y="1523880"/>
          <a:ext cx="8610480" cy="4752720"/>
        </p:xfrm>
        <a:graphic>
          <a:graphicData uri="http://schemas.openxmlformats.org/drawingml/2006/table">
            <a:tbl>
              <a:tblPr/>
              <a:tblGrid>
                <a:gridCol w="1676520"/>
                <a:gridCol w="1371600"/>
                <a:gridCol w="1066680"/>
                <a:gridCol w="1066680"/>
                <a:gridCol w="1219320"/>
                <a:gridCol w="1143000"/>
                <a:gridCol w="1066680"/>
              </a:tblGrid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ppl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tt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D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A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BUSY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ORDER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c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le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INGBACK_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OWER 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Acce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eje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/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NNEC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Hang u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ess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Hold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-Resu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"/>
          <p:cNvSpPr/>
          <p:nvPr/>
        </p:nvSpPr>
        <p:spPr>
          <a:xfrm>
            <a:off x="3048120" y="380880"/>
            <a:ext cx="3200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GUI Display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6-08-07T02:22:34Z</dcterms:modified>
  <cp:revision>33</cp:revision>
  <dc:subject/>
  <dc:title>PowerPoint 프레젠테이션</dc:title>
</cp:coreProperties>
</file>