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7E6-1926-4277-BE89-8D51BF153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7358-2908-4A14-83D7-A1559D0A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AE9-3C9B-4977-88D4-A3B41611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FAA-21E0-4657-87D6-DBCB76637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C36-A749-40CD-81EB-23E61E41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E49-72F9-4B67-AF6A-423017FF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C3A2-C7BA-4FB2-877F-EA3120CA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2657-6294-4304-81B3-F04CBBDB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BBB-A3B3-4C85-AF7B-D84F5765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B994-26F5-4958-8452-1E970E5F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036-1FC8-42B8-A9E8-8F947FEF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A074-CB35-42FA-810C-685EC776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C2F4-3440-496C-B228-A2B60AB3804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SIP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80280" y="1828800"/>
            <a:ext cx="86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2308320" y="2081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1869840" y="2263680"/>
            <a:ext cx="92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Head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11640" y="228600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2028240" y="3078000"/>
            <a:ext cx="61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2117520" y="3489480"/>
            <a:ext cx="42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U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1896840" y="385452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Dialogu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1796760" y="4297320"/>
            <a:ext cx="107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Transa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925640" y="46782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814760" y="2666880"/>
            <a:ext cx="103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1588680" y="50594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Mak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009040" y="2620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a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272840" y="3078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6016320" y="307800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240080" y="348948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3868200" y="3916440"/>
            <a:ext cx="182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4179240" y="4373640"/>
            <a:ext cx="124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782320" y="3489480"/>
            <a:ext cx="160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849280" y="39466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6150600" y="4403880"/>
            <a:ext cx="92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305680" y="52880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7449120" y="3505320"/>
            <a:ext cx="138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SipTimer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2514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2286000" y="2895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327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2286000" y="4114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38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2438280" y="37335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4382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27428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2743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00600" y="28954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791320" y="28954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48006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662940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40080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315200" y="3809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4876920" y="46483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790960" y="464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586728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562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621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31240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3200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514600" y="28954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INVI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9625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36957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523880"/>
            <a:ext cx="11430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Dialogue,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CANCEL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676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31240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_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5638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324480" y="14475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276720" y="1447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3733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407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3809880"/>
            <a:ext cx="761760" cy="228600"/>
          </a:xfrm>
          <a:custGeom>
            <a:avLst/>
            <a:gdLst>
              <a:gd name="textAreaLeft" fmla="*/ 0 w 761760"/>
              <a:gd name="textAreaRight" fmla="*/ 762120 w 761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End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638320" y="3886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78132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657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2666880" y="4267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HAS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124080" y="3505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7543800" y="4114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3580920" y="434340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792468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8305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858000" y="54100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990720" y="60199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99072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971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5753160" y="23238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6019920" y="1295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5333760" y="31240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0481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4952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259092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572000" y="2819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7200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16002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31240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809520" y="3200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297180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2361960" y="3200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65760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429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14857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_OU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828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819520" y="17524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1828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1028520" y="232344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876240" y="27810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219320" y="1523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371600"/>
            <a:ext cx="14479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 on CANC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1371600"/>
            <a:ext cx="1371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487 on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523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2819520" y="1523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1447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rot="5400000">
            <a:off x="1447920" y="38098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518148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6248160" y="60195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6324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6629400" y="6477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6781320" y="56383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10800000">
            <a:off x="50288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95680" y="5334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50292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BY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4876920"/>
            <a:ext cx="6098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KILL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200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5638680" y="5562360"/>
            <a:ext cx="533520" cy="152280"/>
          </a:xfrm>
          <a:custGeom>
            <a:avLst/>
            <a:gdLst>
              <a:gd name="textAreaLeft" fmla="*/ 0 w 533520"/>
              <a:gd name="textAreaRight" fmla="*/ 533880 w 5335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Y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5562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20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18148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5943600"/>
            <a:ext cx="1143000" cy="228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allToRemov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5791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733560" y="6019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971800" y="5410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1752480" y="60199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715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733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477120" y="37339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42670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6781680" y="51814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7543800" y="51814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T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7238880" y="525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85764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371600" y="2590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6172200" y="48006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1981080" y="129528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B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2666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590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809880" y="27432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629400" y="17521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17184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48006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4876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5181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638680" y="525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2590920" y="5257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553080" y="60958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7391520" y="1447560"/>
            <a:ext cx="0" cy="464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 rot="16200000">
            <a:off x="6286320" y="4380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3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019920" y="35812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6629400" y="3809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78168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74284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124080" y="228600"/>
            <a:ext cx="31244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Client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259092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358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16200000">
            <a:off x="22478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1905120" y="1295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590920" y="1523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1523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2705040" y="2095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04812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3048120" y="14479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12193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 rot="16200000">
            <a:off x="3771720" y="323784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114800" y="2971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29718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 rot="5400000">
            <a:off x="22093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2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 rot="5400000">
            <a:off x="2666520" y="32004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1XX Res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 rot="5400000">
            <a:off x="3885840" y="4419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3886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267080" y="48769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3657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7391520" y="144756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7009920" y="1447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52578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4800600" y="4724280"/>
            <a:ext cx="914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 flipH="1" flipV="1">
            <a:off x="4495680" y="41144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724280" y="3886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80988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9625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VITE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590920" y="28195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2971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0" y="3048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2209680" y="23619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057400" y="14479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2666880" y="1676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16765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 rot="16200000">
            <a:off x="2781360" y="24760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124080" y="1828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3048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rot="5400000">
            <a:off x="23238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rot="5400000">
            <a:off x="2781000" y="354348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3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39625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3124080" y="50292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2666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2895480" y="3352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6248520" y="15238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124080" y="18288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3886200" y="1828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4800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 rot="16200000">
            <a:off x="3809880" y="43434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INVIT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34290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267080" y="3657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3657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 rot="10800000">
            <a:off x="3657240" y="525744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56386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365760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4114800" y="579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495680" y="5334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4952880" y="48769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495288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5638680" y="5105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6781680" y="205704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638680" y="4952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3200400" y="228600"/>
            <a:ext cx="31240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Request Server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514600" y="22860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ry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295280" y="24382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22096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3124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rot="5400000">
            <a:off x="2247480" y="300996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22860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mple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3809880" y="2590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3581280" y="4495680"/>
            <a:ext cx="8384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2590920" y="3429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590920" y="48006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238200" y="400032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3352680" y="304812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3733920" y="3276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3886200" y="32767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 rot="5400000">
            <a:off x="3314520" y="5219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1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3657600" y="5638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886200" y="50288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4419720" y="47242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o 2XX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 rot="16200000">
            <a:off x="5753160" y="1866600"/>
            <a:ext cx="990360" cy="152280"/>
          </a:xfrm>
          <a:custGeom>
            <a:avLst/>
            <a:gdLst>
              <a:gd name="textAreaLeft" fmla="*/ 0 w 990360"/>
              <a:gd name="textAreaRight" fmla="*/ 990720 w 9903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Recv Reque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5867280" y="914400"/>
            <a:ext cx="8384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Ling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24852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400800" y="11430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4267080" y="4952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6248520" y="5334120"/>
            <a:ext cx="8380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ermina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rot="5400000">
            <a:off x="6286320" y="308592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IMER J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 rot="5400000">
            <a:off x="6514920" y="300960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 ER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6629400" y="3505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4952880" y="5029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105520" y="2742840"/>
            <a:ext cx="1295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6T10:47:16Z</dcterms:created>
  <dc:creator>gom</dc:creator>
  <dc:description/>
  <dc:language>en-US</dc:language>
  <cp:lastModifiedBy>gom</cp:lastModifiedBy>
  <dcterms:modified xsi:type="dcterms:W3CDTF">2006-08-05T07:45:54Z</dcterms:modified>
  <cp:revision>3</cp:revision>
  <dc:subject/>
  <dc:title>PowerPoint 프레젠테이션</dc:title>
</cp:coreProperties>
</file>