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0667-BC70-4301-ABC6-8E72384F2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D3D1-0637-44C7-8FE7-73BC75D7D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AD22-4F30-444A-83FA-5D559F82A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CF9A-AB35-4AEF-89FA-71B3DBBB9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0E89-978C-47FA-B8F3-EB28E3CCC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A3C9-CAE7-4B26-863A-5A943AD91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BC7C-B01B-4D83-8034-DA8C2DF76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CBC2-461D-4C72-A72D-FE725E6E1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E9F6-A619-4144-BF34-3CD6B5052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A8DF-3ADA-41F3-A7C3-918A03E6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1712-5E55-454A-B4D7-0C9C055F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01AC-4498-4553-85EA-5F7DE489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A9EAE-D08A-413E-B9C3-C5261827530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1828800"/>
            <a:ext cx="3581640" cy="1066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X-Stack (H.323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- Status Diagram -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OLC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7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"/>
          <p:cNvSpPr/>
          <p:nvPr/>
        </p:nvSpPr>
        <p:spPr>
          <a:xfrm>
            <a:off x="2835360" y="1371600"/>
            <a:ext cx="898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Kill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0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"/>
          <p:cNvSpPr/>
          <p:nvPr/>
        </p:nvSpPr>
        <p:spPr>
          <a:xfrm>
            <a:off x="3733920" y="1600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"/>
          <p:cNvSpPr/>
          <p:nvPr/>
        </p:nvSpPr>
        <p:spPr>
          <a:xfrm>
            <a:off x="40384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3" name=""/>
          <p:cNvSpPr/>
          <p:nvPr/>
        </p:nvSpPr>
        <p:spPr>
          <a:xfrm>
            <a:off x="4114800" y="21337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"/>
          <p:cNvSpPr/>
          <p:nvPr/>
        </p:nvSpPr>
        <p:spPr>
          <a:xfrm>
            <a:off x="2971800" y="2133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"/>
          <p:cNvSpPr/>
          <p:nvPr/>
        </p:nvSpPr>
        <p:spPr>
          <a:xfrm>
            <a:off x="5486400" y="15238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"/>
          <p:cNvSpPr/>
          <p:nvPr/>
        </p:nvSpPr>
        <p:spPr>
          <a:xfrm>
            <a:off x="678168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"/>
          <p:cNvSpPr/>
          <p:nvPr/>
        </p:nvSpPr>
        <p:spPr>
          <a:xfrm>
            <a:off x="6781680" y="30481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ymm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"/>
          <p:cNvSpPr/>
          <p:nvPr/>
        </p:nvSpPr>
        <p:spPr>
          <a:xfrm>
            <a:off x="5181480" y="3886200"/>
            <a:ext cx="129564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"/>
          <p:cNvSpPr/>
          <p:nvPr/>
        </p:nvSpPr>
        <p:spPr>
          <a:xfrm>
            <a:off x="3581280" y="388620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Symmet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2" name=""/>
          <p:cNvSpPr/>
          <p:nvPr/>
        </p:nvSpPr>
        <p:spPr>
          <a:xfrm>
            <a:off x="2209680" y="3886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3" name=""/>
          <p:cNvSpPr/>
          <p:nvPr/>
        </p:nvSpPr>
        <p:spPr>
          <a:xfrm>
            <a:off x="51055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4" name=""/>
          <p:cNvSpPr/>
          <p:nvPr/>
        </p:nvSpPr>
        <p:spPr>
          <a:xfrm>
            <a:off x="6477120" y="1600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5" name=""/>
          <p:cNvSpPr/>
          <p:nvPr/>
        </p:nvSpPr>
        <p:spPr>
          <a:xfrm>
            <a:off x="7315200" y="1905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0" y="1905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380952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1676520" y="22096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"/>
          <p:cNvSpPr/>
          <p:nvPr/>
        </p:nvSpPr>
        <p:spPr>
          <a:xfrm>
            <a:off x="731520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0" name=""/>
          <p:cNvSpPr/>
          <p:nvPr/>
        </p:nvSpPr>
        <p:spPr>
          <a:xfrm>
            <a:off x="7315200" y="3581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647712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48006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3200400" y="3962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124080" y="23619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3123720" y="2666880"/>
            <a:ext cx="4038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3124080" y="327672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7" name=""/>
          <p:cNvSpPr/>
          <p:nvPr/>
        </p:nvSpPr>
        <p:spPr>
          <a:xfrm>
            <a:off x="6858000" y="9907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7162920" y="1218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1676160" y="10666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0" name=""/>
          <p:cNvSpPr/>
          <p:nvPr/>
        </p:nvSpPr>
        <p:spPr>
          <a:xfrm>
            <a:off x="1692360" y="46483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1" name=""/>
          <p:cNvSpPr/>
          <p:nvPr/>
        </p:nvSpPr>
        <p:spPr>
          <a:xfrm>
            <a:off x="1692360" y="52578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2" name=""/>
          <p:cNvSpPr/>
          <p:nvPr/>
        </p:nvSpPr>
        <p:spPr>
          <a:xfrm>
            <a:off x="3292560" y="45720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3" name=""/>
          <p:cNvSpPr/>
          <p:nvPr/>
        </p:nvSpPr>
        <p:spPr>
          <a:xfrm>
            <a:off x="3292560" y="51814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"/>
          <p:cNvSpPr/>
          <p:nvPr/>
        </p:nvSpPr>
        <p:spPr>
          <a:xfrm>
            <a:off x="260676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5" name=""/>
          <p:cNvSpPr/>
          <p:nvPr/>
        </p:nvSpPr>
        <p:spPr>
          <a:xfrm>
            <a:off x="2530440" y="53341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5334120" y="44193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1692360" y="4419720"/>
            <a:ext cx="364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825720" y="50288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1692360" y="502920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"/>
          <p:cNvSpPr/>
          <p:nvPr/>
        </p:nvSpPr>
        <p:spPr>
          <a:xfrm>
            <a:off x="1676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"/>
          <p:cNvSpPr/>
          <p:nvPr/>
        </p:nvSpPr>
        <p:spPr>
          <a:xfrm>
            <a:off x="3276720" y="586728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OLC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2" name=""/>
          <p:cNvSpPr/>
          <p:nvPr/>
        </p:nvSpPr>
        <p:spPr>
          <a:xfrm>
            <a:off x="2514600" y="6019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5334120" y="5714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1676520" y="5715000"/>
            <a:ext cx="3657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"/>
          <p:cNvSpPr/>
          <p:nvPr/>
        </p:nvSpPr>
        <p:spPr>
          <a:xfrm>
            <a:off x="4876920" y="457200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"/>
          <p:cNvSpPr/>
          <p:nvPr/>
        </p:nvSpPr>
        <p:spPr>
          <a:xfrm>
            <a:off x="4876920" y="58672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LC open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7" name=""/>
          <p:cNvSpPr/>
          <p:nvPr/>
        </p:nvSpPr>
        <p:spPr>
          <a:xfrm>
            <a:off x="426708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"/>
          <p:cNvSpPr/>
          <p:nvPr/>
        </p:nvSpPr>
        <p:spPr>
          <a:xfrm>
            <a:off x="4191120" y="59436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380880" y="228600"/>
            <a:ext cx="381024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– ESC, OLC Time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0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1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2" name=""/>
          <p:cNvSpPr/>
          <p:nvPr/>
        </p:nvSpPr>
        <p:spPr>
          <a:xfrm>
            <a:off x="1692360" y="1905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3" name=""/>
          <p:cNvSpPr/>
          <p:nvPr/>
        </p:nvSpPr>
        <p:spPr>
          <a:xfrm>
            <a:off x="2530440" y="1981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"/>
          <p:cNvSpPr/>
          <p:nvPr/>
        </p:nvSpPr>
        <p:spPr>
          <a:xfrm>
            <a:off x="2819520" y="1600200"/>
            <a:ext cx="1143000" cy="7621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"/>
          <p:cNvSpPr/>
          <p:nvPr/>
        </p:nvSpPr>
        <p:spPr>
          <a:xfrm>
            <a:off x="4343400" y="190512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OLC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6" name=""/>
          <p:cNvSpPr/>
          <p:nvPr/>
        </p:nvSpPr>
        <p:spPr>
          <a:xfrm>
            <a:off x="39625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7" name=""/>
          <p:cNvSpPr/>
          <p:nvPr/>
        </p:nvSpPr>
        <p:spPr>
          <a:xfrm>
            <a:off x="5334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8" name=""/>
          <p:cNvSpPr/>
          <p:nvPr/>
        </p:nvSpPr>
        <p:spPr>
          <a:xfrm>
            <a:off x="5715000" y="19051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9" name=""/>
          <p:cNvSpPr/>
          <p:nvPr/>
        </p:nvSpPr>
        <p:spPr>
          <a:xfrm>
            <a:off x="1692360" y="3657600"/>
            <a:ext cx="1203120" cy="152280"/>
          </a:xfrm>
          <a:custGeom>
            <a:avLst/>
            <a:gdLst>
              <a:gd name="textAreaLeft" fmla="*/ 0 w 1203120"/>
              <a:gd name="textAreaRight" fmla="*/ 1203480 w 1203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ven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"/>
          <p:cNvSpPr/>
          <p:nvPr/>
        </p:nvSpPr>
        <p:spPr>
          <a:xfrm>
            <a:off x="5638680" y="251460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"/>
          <p:cNvSpPr/>
          <p:nvPr/>
        </p:nvSpPr>
        <p:spPr>
          <a:xfrm>
            <a:off x="4495680" y="251460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Ses = 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"/>
          <p:cNvSpPr/>
          <p:nvPr/>
        </p:nvSpPr>
        <p:spPr>
          <a:xfrm>
            <a:off x="3352680" y="2362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1676520" y="28954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4" name=""/>
          <p:cNvSpPr/>
          <p:nvPr/>
        </p:nvSpPr>
        <p:spPr>
          <a:xfrm>
            <a:off x="617220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525780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3352320" y="26668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7" name=""/>
          <p:cNvSpPr/>
          <p:nvPr/>
        </p:nvSpPr>
        <p:spPr>
          <a:xfrm>
            <a:off x="327672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8" name=""/>
          <p:cNvSpPr/>
          <p:nvPr/>
        </p:nvSpPr>
        <p:spPr>
          <a:xfrm>
            <a:off x="4800600" y="35053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9" name=""/>
          <p:cNvSpPr/>
          <p:nvPr/>
        </p:nvSpPr>
        <p:spPr>
          <a:xfrm>
            <a:off x="6400800" y="36576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ut OL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"/>
          <p:cNvSpPr/>
          <p:nvPr/>
        </p:nvSpPr>
        <p:spPr>
          <a:xfrm>
            <a:off x="6400800" y="43434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OLC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1" name=""/>
          <p:cNvSpPr/>
          <p:nvPr/>
        </p:nvSpPr>
        <p:spPr>
          <a:xfrm>
            <a:off x="3352680" y="449568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lete 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2" name=""/>
          <p:cNvSpPr/>
          <p:nvPr/>
        </p:nvSpPr>
        <p:spPr>
          <a:xfrm>
            <a:off x="6400800" y="51055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3" name=""/>
          <p:cNvSpPr/>
          <p:nvPr/>
        </p:nvSpPr>
        <p:spPr>
          <a:xfrm>
            <a:off x="2895480" y="3733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4" name=""/>
          <p:cNvSpPr/>
          <p:nvPr/>
        </p:nvSpPr>
        <p:spPr>
          <a:xfrm>
            <a:off x="434340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5" name=""/>
          <p:cNvSpPr/>
          <p:nvPr/>
        </p:nvSpPr>
        <p:spPr>
          <a:xfrm>
            <a:off x="5867280" y="3733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6" name=""/>
          <p:cNvSpPr/>
          <p:nvPr/>
        </p:nvSpPr>
        <p:spPr>
          <a:xfrm>
            <a:off x="6858000" y="3886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7" name=""/>
          <p:cNvSpPr/>
          <p:nvPr/>
        </p:nvSpPr>
        <p:spPr>
          <a:xfrm>
            <a:off x="685800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1676160" y="5181480"/>
            <a:ext cx="4724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1676520" y="464832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0" name=""/>
          <p:cNvSpPr/>
          <p:nvPr/>
        </p:nvSpPr>
        <p:spPr>
          <a:xfrm>
            <a:off x="3733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1" name=""/>
          <p:cNvSpPr/>
          <p:nvPr/>
        </p:nvSpPr>
        <p:spPr>
          <a:xfrm>
            <a:off x="5334120" y="40384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73680" y="433440"/>
            <a:ext cx="102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f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3137400" y="890640"/>
            <a:ext cx="96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LockLis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3109680" y="134784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1075680" y="188136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QMessag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818520" y="1881360"/>
            <a:ext cx="106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Gatekeep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250600" y="1881360"/>
            <a:ext cx="93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pab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6679440" y="18813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asWai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4615200" y="2362320"/>
            <a:ext cx="88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Endpoin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4888440" y="276696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Cal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4521960" y="322416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Utilit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4466160" y="375768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Maker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5408640" y="4062240"/>
            <a:ext cx="8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allClos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4461120" y="4443480"/>
            <a:ext cx="13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Message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1031400" y="2313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cpConne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1107720" y="27194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ocketSe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744840" y="3124080"/>
            <a:ext cx="160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1105200" y="35352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net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2312640" y="2389320"/>
            <a:ext cx="87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inTim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4384800" y="4951440"/>
            <a:ext cx="16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Handl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4668840" y="548496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Dem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4795200" y="5943600"/>
            <a:ext cx="71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H323UI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1676520" y="5715000"/>
            <a:ext cx="1371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685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1143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3962520" y="160020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4038480" y="1600200"/>
            <a:ext cx="16002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1523880"/>
            <a:ext cx="281952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1752120" y="1523880"/>
            <a:ext cx="129564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1981080" y="2057400"/>
            <a:ext cx="3812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1523880" y="2133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1523880" y="2514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2971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3352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4495680" y="21337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257440" y="21337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5105520" y="2971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5105520" y="3505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4876920" y="3962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396252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714640" y="426708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4724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5105520" y="5181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5105520" y="5715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971800" y="60958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895480" y="1600200"/>
            <a:ext cx="53352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86000" y="266688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410080" y="3429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67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9842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6589800" y="579600"/>
            <a:ext cx="178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Header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6609240" y="868320"/>
            <a:ext cx="175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clude on Source Fi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320400" y="380880"/>
            <a:ext cx="21117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Include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638320" y="2209680"/>
            <a:ext cx="129564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133720" y="3428640"/>
            <a:ext cx="23619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40640" y="533520"/>
            <a:ext cx="2545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Status Diagram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2971800"/>
            <a:ext cx="121932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F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3886200"/>
            <a:ext cx="1143000" cy="4572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V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4648320"/>
            <a:ext cx="2286000" cy="533160"/>
          </a:xfrm>
          <a:prstGeom prst="hexagon">
            <a:avLst>
              <a:gd name="adj" fmla="val 3176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SEND EVENT MESSAG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2057400"/>
            <a:ext cx="121896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971800"/>
            <a:ext cx="11430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3733920"/>
            <a:ext cx="1905120" cy="533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CTION GROU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5029200" y="2133720"/>
            <a:ext cx="1295280" cy="5331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LL BAC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47242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50292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312240" y="462276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6348240" y="49370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04920" y="838080"/>
            <a:ext cx="12189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83808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83808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1905120" y="20574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213372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3048120" y="2133720"/>
            <a:ext cx="1523880" cy="228600"/>
          </a:xfrm>
          <a:prstGeom prst="hexagon">
            <a:avLst>
              <a:gd name="adj" fmla="val 49379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4800600" y="2133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RY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137160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1447920"/>
            <a:ext cx="6858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2133720"/>
            <a:ext cx="1067040" cy="228600"/>
          </a:xfrm>
          <a:prstGeom prst="hexagon">
            <a:avLst>
              <a:gd name="adj" fmla="val 34576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981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31240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7238880" y="3276720"/>
            <a:ext cx="1067040" cy="1522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7086600" y="30481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rot="10800000">
            <a:off x="5943600" y="35812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5562360" y="304776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6247800" y="4267080"/>
            <a:ext cx="1371600" cy="1522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6019920"/>
            <a:ext cx="106668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6781680" y="541008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7543800" y="61722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7391520" y="594360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5410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 rot="10800000">
            <a:off x="5866920" y="6476760"/>
            <a:ext cx="838440" cy="152280"/>
          </a:xfrm>
          <a:custGeom>
            <a:avLst/>
            <a:gdLst>
              <a:gd name="textAreaLeft" fmla="*/ 0 w 838440"/>
              <a:gd name="textAreaRight" fmla="*/ 838800 w 83844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rot="10800000">
            <a:off x="5486040" y="594324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3048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6248520"/>
            <a:ext cx="38088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594360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4191120"/>
            <a:ext cx="3812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3657600"/>
            <a:ext cx="7621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 rot="5400000">
            <a:off x="685440" y="4495680"/>
            <a:ext cx="761760" cy="152280"/>
          </a:xfrm>
          <a:custGeom>
            <a:avLst/>
            <a:gdLst>
              <a:gd name="textAreaLeft" fmla="*/ 0 w 761760"/>
              <a:gd name="textAreaRight" fmla="*/ 762120 w 76176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rot="5400000">
            <a:off x="227880" y="4572000"/>
            <a:ext cx="1066680" cy="15228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60958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 rot="10800000">
            <a:off x="2285640" y="6095880"/>
            <a:ext cx="685800" cy="152640"/>
          </a:xfrm>
          <a:custGeom>
            <a:avLst/>
            <a:gdLst>
              <a:gd name="textAreaLeft" fmla="*/ 0 w 685800"/>
              <a:gd name="textAreaRight" fmla="*/ 686160 w 6858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rot="10800000">
            <a:off x="1981080" y="6324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2705040" y="529560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523520" y="9144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742840" y="914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10080" y="914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4572000" y="914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781680" y="11426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486400" y="11430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410080" y="1752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60199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6934320" y="23623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7924680" y="3124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8686800" y="312408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8305920" y="3352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8610480" y="56386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8229600" y="6019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934320" y="5029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6934320" y="563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>
            <a:off x="7162920" y="5486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572000" y="655308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952880" y="60199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952880" y="327672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10552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4343040" y="36576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4343400" y="3657600"/>
            <a:ext cx="0" cy="259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27672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352680" y="31240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504960" y="63244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1447920" y="61722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1447560" y="64008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762120" y="51814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49528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1676520" y="2209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2209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362320" y="1752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362320" y="10663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2819520" y="15238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15238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15238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25146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876920" y="27428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990720" y="6629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990720" y="64767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295280" y="4267080"/>
            <a:ext cx="1828800" cy="182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ing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990360" y="312408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3124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0880" y="83808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1905120" y="838080"/>
            <a:ext cx="990360" cy="228600"/>
          </a:xfrm>
          <a:custGeom>
            <a:avLst/>
            <a:gdLst>
              <a:gd name="textAreaLeft" fmla="*/ 0 w 990360"/>
              <a:gd name="textAreaRight" fmla="*/ 990720 w 9903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838080"/>
            <a:ext cx="1524240" cy="228600"/>
          </a:xfrm>
          <a:prstGeom prst="hexagon">
            <a:avLst>
              <a:gd name="adj" fmla="val 4939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1600200" y="914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819520" y="9144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236232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2209680"/>
            <a:ext cx="6094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IDL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362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Mak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3657600" y="2209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3619440" y="1561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4419720" y="26668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>
            <a:off x="6705720" y="2590920"/>
            <a:ext cx="914400" cy="38088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gis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6705720" y="1752480"/>
            <a:ext cx="914400" cy="38124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5791320" y="2666880"/>
            <a:ext cx="3808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>
            <a:off x="6553080" y="380988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>
            <a:off x="6629400" y="533412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CallProce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0" y="5791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Ale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7924680" y="403848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56386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Ready 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 rot="10800000">
            <a:off x="3809880" y="58672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CCEPT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2819520" y="4876920"/>
            <a:ext cx="9144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S 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42670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5029200"/>
            <a:ext cx="1143000" cy="228600"/>
          </a:xfrm>
          <a:prstGeom prst="hexagon">
            <a:avLst>
              <a:gd name="adj" fmla="val 37037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FACILITY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3352680"/>
            <a:ext cx="6098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굴림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rot="5400000">
            <a:off x="608760" y="4114800"/>
            <a:ext cx="762120" cy="152280"/>
          </a:xfrm>
          <a:custGeom>
            <a:avLst/>
            <a:gdLst>
              <a:gd name="textAreaLeft" fmla="*/ 0 w 762120"/>
              <a:gd name="textAreaRight" fmla="*/ 762480 w 7621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152280" y="434304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5867280"/>
            <a:ext cx="914400" cy="38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685800" y="49528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990720" y="4572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5410080" y="18288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42670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4686120" y="4990320"/>
            <a:ext cx="1143000" cy="15264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CAL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5067360" y="4990680"/>
            <a:ext cx="1143000" cy="1522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579132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>
            <a:off x="2133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3276720" y="2438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533412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943600" y="2057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324120" y="1905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7162920" y="2133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6172200" y="2743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7162920" y="29718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7620120" y="4114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7162920" y="449568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>
            <a:off x="7162920" y="5562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5943600" y="58672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429000" y="5943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276720" y="54097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59056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3276720" y="44953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7543800" y="19051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7924680" y="19051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162920" y="33526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8077320" y="4267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7162920" y="48006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981080" y="48002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1981080" y="48006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3352680" y="228600"/>
            <a:ext cx="28195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ed Party Flow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3276720" y="35809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990720" y="35812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57200" y="228600"/>
            <a:ext cx="1905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H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4724280" y="76212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mi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182880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ES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2362320"/>
            <a:ext cx="1218960" cy="228600"/>
          </a:xfrm>
          <a:prstGeom prst="hexagon">
            <a:avLst>
              <a:gd name="adj" fmla="val 39498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>
            <a:off x="2971800" y="99072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R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2971800" y="1752480"/>
            <a:ext cx="1219320" cy="228600"/>
          </a:xfrm>
          <a:prstGeom prst="hexagon">
            <a:avLst>
              <a:gd name="adj" fmla="val 39510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19810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DRQ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>
            <a:off x="6781680" y="99072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Remov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6324480" y="1676520"/>
            <a:ext cx="1676520" cy="228600"/>
          </a:xfrm>
          <a:prstGeom prst="hexagon">
            <a:avLst>
              <a:gd name="adj" fmla="val 54325"/>
              <a:gd name="vf" fmla="val 1154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_SOCKET_S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6400800" y="23623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move Call Obj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40384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800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Ge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>
            <a:off x="121932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55627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2971800" y="495288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LC Ope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4952880" y="42670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>
            <a:off x="6019920" y="4343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4800600" y="502920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LO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6019920" y="51055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6400800" y="4191120"/>
            <a:ext cx="13716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Session = FALS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6324480" y="5029200"/>
            <a:ext cx="990720" cy="228600"/>
          </a:xfrm>
          <a:custGeom>
            <a:avLst/>
            <a:gdLst>
              <a:gd name="textAreaLeft" fmla="*/ 0 w 990720"/>
              <a:gd name="textAreaRight" fmla="*/ 991080 w 9907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00" y="0"/>
                </a:lnTo>
                <a:lnTo>
                  <a:pt x="21600" y="10800"/>
                </a:lnTo>
                <a:lnTo>
                  <a:pt x="19600" y="21600"/>
                </a:lnTo>
                <a:lnTo>
                  <a:pt x="0" y="21600"/>
                </a:lnTo>
                <a:lnTo>
                  <a:pt x="200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Except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548640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1066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2362320" y="10666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1752480" y="1447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1752480" y="2057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3581280" y="12193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4479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5867280" y="10666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7162920" y="121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7162920" y="1905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525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457200" y="4343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33160" y="5867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1676520" y="4495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1676520" y="5257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434340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5791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276720" y="518112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276720" y="43430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2514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66688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4495680" y="10663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4495680" y="1066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4191120" y="1828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2057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019920" y="10666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2362320" y="5029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2743200" y="43430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3809880" y="57913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3962520" y="43434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685800" y="609480"/>
            <a:ext cx="7467480" cy="2590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4495680" y="3886200"/>
            <a:ext cx="3657600" cy="838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>
            <a:off x="4495680" y="4876920"/>
            <a:ext cx="3657600" cy="137160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685800" y="3886200"/>
            <a:ext cx="3429000" cy="2362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" y="3505320"/>
            <a:ext cx="7621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F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4102560" y="4089240"/>
            <a:ext cx="38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411120" y="562284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>
            <a:off x="4854960" y="5851440"/>
            <a:ext cx="2804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Note :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정상적인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ocket Close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EnetDemon </a:t>
            </a: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에서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굴림"/>
              </a:rPr>
              <a:t>이미 처리될 것임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5720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DC245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(discharge H.245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914400" y="685800"/>
            <a:ext cx="1143000" cy="68580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=F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ssion=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914400" y="1600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>
            <a:off x="5486400" y="9144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>
            <a:off x="40384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Make Q93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"/>
          <p:cNvSpPr/>
          <p:nvPr/>
        </p:nvSpPr>
        <p:spPr>
          <a:xfrm>
            <a:off x="5486400" y="16765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heck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"/>
          <p:cNvSpPr/>
          <p:nvPr/>
        </p:nvSpPr>
        <p:spPr>
          <a:xfrm>
            <a:off x="3809880" y="106668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5562720" y="2514600"/>
            <a:ext cx="1447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nclude H.245 Control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Q931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2514600"/>
            <a:ext cx="13716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 h.245 Message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n Sess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41911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7238880" y="4495680"/>
            <a:ext cx="6858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1905120" y="3429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50292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unn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4114800" y="4495680"/>
            <a:ext cx="1371600" cy="15264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CONNEC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5486400" y="4572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>
            <a:off x="4114800" y="5029200"/>
            <a:ext cx="1295280" cy="15228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H245_ACCEPT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533520" y="3581280"/>
            <a:ext cx="1066680" cy="15264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CONNEC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1600200" y="3657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609480" y="5181480"/>
            <a:ext cx="1067040" cy="15264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Q931_SETUP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1676520" y="52578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1066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2057400" y="1066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1295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1371600" y="2057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2286000" y="10666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3276720" y="1143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5791320"/>
            <a:ext cx="7617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541008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5638680" y="4572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5867280" y="4419720"/>
            <a:ext cx="7621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6629400" y="45720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4952880" y="11430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>
            <a:off x="6629400" y="1143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5867280" y="1371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>
            <a:off x="5867280" y="2133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7010280" y="11430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>
            <a:off x="1905120" y="19810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6553080" y="1981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2438280" y="3962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2362320" y="5486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>
            <a:off x="3048120" y="36576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>
            <a:off x="3048120" y="5257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2895480" y="44197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3276720" y="36572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2895480" y="601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3276720" y="52574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320040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TC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"/>
          <p:cNvSpPr/>
          <p:nvPr/>
        </p:nvSpPr>
        <p:spPr>
          <a:xfrm>
            <a:off x="1692360" y="37339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"/>
          <p:cNvSpPr/>
          <p:nvPr/>
        </p:nvSpPr>
        <p:spPr>
          <a:xfrm>
            <a:off x="1692360" y="44956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T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"/>
          <p:cNvSpPr/>
          <p:nvPr/>
        </p:nvSpPr>
        <p:spPr>
          <a:xfrm>
            <a:off x="1692360" y="510552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"/>
          <p:cNvSpPr/>
          <p:nvPr/>
        </p:nvSpPr>
        <p:spPr>
          <a:xfrm>
            <a:off x="534996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astStar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"/>
          <p:cNvSpPr/>
          <p:nvPr/>
        </p:nvSpPr>
        <p:spPr>
          <a:xfrm>
            <a:off x="3978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"/>
          <p:cNvSpPr/>
          <p:nvPr/>
        </p:nvSpPr>
        <p:spPr>
          <a:xfrm>
            <a:off x="6797520" y="13716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edi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tch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"/>
          <p:cNvSpPr/>
          <p:nvPr/>
        </p:nvSpPr>
        <p:spPr>
          <a:xfrm>
            <a:off x="5807160" y="23623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ke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"/>
          <p:cNvSpPr/>
          <p:nvPr/>
        </p:nvSpPr>
        <p:spPr>
          <a:xfrm>
            <a:off x="428292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recvTCS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"/>
          <p:cNvSpPr/>
          <p:nvPr/>
        </p:nvSpPr>
        <p:spPr>
          <a:xfrm>
            <a:off x="4435560" y="304812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"/>
          <p:cNvSpPr/>
          <p:nvPr/>
        </p:nvSpPr>
        <p:spPr>
          <a:xfrm>
            <a:off x="5425920" y="914400"/>
            <a:ext cx="83844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"/>
          <p:cNvSpPr/>
          <p:nvPr/>
        </p:nvSpPr>
        <p:spPr>
          <a:xfrm>
            <a:off x="3292560" y="365760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4" name=""/>
          <p:cNvSpPr/>
          <p:nvPr/>
        </p:nvSpPr>
        <p:spPr>
          <a:xfrm>
            <a:off x="3292560" y="441972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TCS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5" name=""/>
          <p:cNvSpPr/>
          <p:nvPr/>
        </p:nvSpPr>
        <p:spPr>
          <a:xfrm>
            <a:off x="2987640" y="510552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TCS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6" name=""/>
          <p:cNvSpPr/>
          <p:nvPr/>
        </p:nvSpPr>
        <p:spPr>
          <a:xfrm>
            <a:off x="42069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"/>
          <p:cNvSpPr/>
          <p:nvPr/>
        </p:nvSpPr>
        <p:spPr>
          <a:xfrm>
            <a:off x="5578560" y="4876920"/>
            <a:ext cx="1143000" cy="53316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OLC lis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8" name=""/>
          <p:cNvSpPr/>
          <p:nvPr/>
        </p:nvSpPr>
        <p:spPr>
          <a:xfrm>
            <a:off x="7102440" y="5029200"/>
            <a:ext cx="9907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tart OLC Tim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1" name=""/>
          <p:cNvSpPr/>
          <p:nvPr/>
        </p:nvSpPr>
        <p:spPr>
          <a:xfrm>
            <a:off x="6873840" y="220968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OLC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"/>
          <p:cNvSpPr/>
          <p:nvPr/>
        </p:nvSpPr>
        <p:spPr>
          <a:xfrm>
            <a:off x="3063960" y="236232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"/>
          <p:cNvSpPr/>
          <p:nvPr/>
        </p:nvSpPr>
        <p:spPr>
          <a:xfrm>
            <a:off x="4816440" y="1600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"/>
          <p:cNvSpPr/>
          <p:nvPr/>
        </p:nvSpPr>
        <p:spPr>
          <a:xfrm>
            <a:off x="6416640" y="1600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5" name=""/>
          <p:cNvSpPr/>
          <p:nvPr/>
        </p:nvSpPr>
        <p:spPr>
          <a:xfrm>
            <a:off x="7331040" y="19051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5959440" y="11426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1692000" y="990720"/>
            <a:ext cx="3733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7331040" y="990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6264000" y="9907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0" name=""/>
          <p:cNvSpPr/>
          <p:nvPr/>
        </p:nvSpPr>
        <p:spPr>
          <a:xfrm>
            <a:off x="801684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8169120" y="12193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7331040" y="12193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66448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5273640" y="2514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3902040" y="2514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1692360" y="25146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3521160" y="32004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"/>
          <p:cNvSpPr/>
          <p:nvPr/>
        </p:nvSpPr>
        <p:spPr>
          <a:xfrm>
            <a:off x="4816440" y="2743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3521160" y="25905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"/>
          <p:cNvSpPr/>
          <p:nvPr/>
        </p:nvSpPr>
        <p:spPr>
          <a:xfrm>
            <a:off x="2606760" y="3809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"/>
          <p:cNvSpPr/>
          <p:nvPr/>
        </p:nvSpPr>
        <p:spPr>
          <a:xfrm>
            <a:off x="2530440" y="4572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3825720" y="35049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1692360" y="35053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3825720" y="4267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1692360" y="42670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6" name=""/>
          <p:cNvSpPr/>
          <p:nvPr/>
        </p:nvSpPr>
        <p:spPr>
          <a:xfrm>
            <a:off x="260676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7" name=""/>
          <p:cNvSpPr/>
          <p:nvPr/>
        </p:nvSpPr>
        <p:spPr>
          <a:xfrm>
            <a:off x="39020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"/>
          <p:cNvSpPr/>
          <p:nvPr/>
        </p:nvSpPr>
        <p:spPr>
          <a:xfrm>
            <a:off x="5273640" y="5181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9" name=""/>
          <p:cNvSpPr/>
          <p:nvPr/>
        </p:nvSpPr>
        <p:spPr>
          <a:xfrm>
            <a:off x="664524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0" name=""/>
          <p:cNvSpPr/>
          <p:nvPr/>
        </p:nvSpPr>
        <p:spPr>
          <a:xfrm>
            <a:off x="4740120" y="5410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1692360" y="594360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"/>
          <p:cNvSpPr/>
          <p:nvPr/>
        </p:nvSpPr>
        <p:spPr>
          <a:xfrm>
            <a:off x="6035760" y="5334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4739760" y="579132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"/>
          <p:cNvSpPr/>
          <p:nvPr/>
        </p:nvSpPr>
        <p:spPr>
          <a:xfrm>
            <a:off x="7635960" y="5257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6035400" y="55627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380880" y="228600"/>
            <a:ext cx="213372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H245 - MS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"/>
          <p:cNvSpPr/>
          <p:nvPr/>
        </p:nvSpPr>
        <p:spPr>
          <a:xfrm>
            <a:off x="993600" y="2322360"/>
            <a:ext cx="54612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ady Stat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"/>
          <p:cNvSpPr/>
          <p:nvPr/>
        </p:nvSpPr>
        <p:spPr>
          <a:xfrm>
            <a:off x="1692360" y="914400"/>
            <a:ext cx="0" cy="533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9" name=""/>
          <p:cNvSpPr/>
          <p:nvPr/>
        </p:nvSpPr>
        <p:spPr>
          <a:xfrm>
            <a:off x="1692360" y="1523880"/>
            <a:ext cx="838080" cy="15264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0" name=""/>
          <p:cNvSpPr/>
          <p:nvPr/>
        </p:nvSpPr>
        <p:spPr>
          <a:xfrm>
            <a:off x="1692360" y="2895480"/>
            <a:ext cx="914400" cy="15264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1" name=""/>
          <p:cNvSpPr/>
          <p:nvPr/>
        </p:nvSpPr>
        <p:spPr>
          <a:xfrm>
            <a:off x="1692360" y="3962520"/>
            <a:ext cx="838080" cy="152280"/>
          </a:xfrm>
          <a:custGeom>
            <a:avLst/>
            <a:gdLst>
              <a:gd name="textAreaLeft" fmla="*/ 0 w 838080"/>
              <a:gd name="textAreaRight" fmla="*/ 838440 w 8380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_MS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2" name=""/>
          <p:cNvSpPr/>
          <p:nvPr/>
        </p:nvSpPr>
        <p:spPr>
          <a:xfrm>
            <a:off x="1692360" y="4800600"/>
            <a:ext cx="914400" cy="152280"/>
          </a:xfrm>
          <a:custGeom>
            <a:avLst/>
            <a:gdLst>
              <a:gd name="textAreaLeft" fmla="*/ 0 w 914400"/>
              <a:gd name="textAreaRight" fmla="*/ 914760 w 914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91" y="0"/>
                </a:lnTo>
                <a:lnTo>
                  <a:pt x="21600" y="10800"/>
                </a:lnTo>
                <a:lnTo>
                  <a:pt x="18491" y="21600"/>
                </a:lnTo>
                <a:lnTo>
                  <a:pt x="0" y="216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_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3" name=""/>
          <p:cNvSpPr/>
          <p:nvPr/>
        </p:nvSpPr>
        <p:spPr>
          <a:xfrm>
            <a:off x="283536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4" name=""/>
          <p:cNvSpPr/>
          <p:nvPr/>
        </p:nvSpPr>
        <p:spPr>
          <a:xfrm>
            <a:off x="3292560" y="2819520"/>
            <a:ext cx="99036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5" name=""/>
          <p:cNvSpPr/>
          <p:nvPr/>
        </p:nvSpPr>
        <p:spPr>
          <a:xfrm>
            <a:off x="3292560" y="388620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ndMSD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6" name=""/>
          <p:cNvSpPr/>
          <p:nvPr/>
        </p:nvSpPr>
        <p:spPr>
          <a:xfrm>
            <a:off x="2987640" y="480060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recvMSDA = 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7" name=""/>
          <p:cNvSpPr/>
          <p:nvPr/>
        </p:nvSpPr>
        <p:spPr>
          <a:xfrm>
            <a:off x="2530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8" name=""/>
          <p:cNvSpPr/>
          <p:nvPr/>
        </p:nvSpPr>
        <p:spPr>
          <a:xfrm>
            <a:off x="367344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9" name=""/>
          <p:cNvSpPr/>
          <p:nvPr/>
        </p:nvSpPr>
        <p:spPr>
          <a:xfrm>
            <a:off x="2606760" y="2971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"/>
          <p:cNvSpPr/>
          <p:nvPr/>
        </p:nvSpPr>
        <p:spPr>
          <a:xfrm>
            <a:off x="2530440" y="4038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825720" y="2666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1692360" y="26668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38257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1692360" y="373392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"/>
          <p:cNvSpPr/>
          <p:nvPr/>
        </p:nvSpPr>
        <p:spPr>
          <a:xfrm>
            <a:off x="260676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6" name=""/>
          <p:cNvSpPr/>
          <p:nvPr/>
        </p:nvSpPr>
        <p:spPr>
          <a:xfrm>
            <a:off x="390204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7" name=""/>
          <p:cNvSpPr/>
          <p:nvPr/>
        </p:nvSpPr>
        <p:spPr>
          <a:xfrm>
            <a:off x="3962520" y="1523880"/>
            <a:ext cx="1066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termin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"/>
          <p:cNvSpPr/>
          <p:nvPr/>
        </p:nvSpPr>
        <p:spPr>
          <a:xfrm>
            <a:off x="5334120" y="1523880"/>
            <a:ext cx="8380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Add MSDA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9" name=""/>
          <p:cNvSpPr/>
          <p:nvPr/>
        </p:nvSpPr>
        <p:spPr>
          <a:xfrm>
            <a:off x="5029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"/>
          <p:cNvSpPr/>
          <p:nvPr/>
        </p:nvSpPr>
        <p:spPr>
          <a:xfrm>
            <a:off x="6477120" y="1523880"/>
            <a:ext cx="83808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C245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1" name=""/>
          <p:cNvSpPr/>
          <p:nvPr/>
        </p:nvSpPr>
        <p:spPr>
          <a:xfrm>
            <a:off x="6172200" y="1600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0" y="17524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1676160" y="1981080"/>
            <a:ext cx="5181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4" name=""/>
          <p:cNvSpPr/>
          <p:nvPr/>
        </p:nvSpPr>
        <p:spPr>
          <a:xfrm>
            <a:off x="420696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Is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5" name=""/>
          <p:cNvSpPr/>
          <p:nvPr/>
        </p:nvSpPr>
        <p:spPr>
          <a:xfrm>
            <a:off x="5638680" y="4572000"/>
            <a:ext cx="1143000" cy="533520"/>
          </a:xfrm>
          <a:prstGeom prst="flowChartDecision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mpare M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6" name=""/>
          <p:cNvSpPr/>
          <p:nvPr/>
        </p:nvSpPr>
        <p:spPr>
          <a:xfrm>
            <a:off x="7086600" y="4724280"/>
            <a:ext cx="914400" cy="228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all Clo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7" name=""/>
          <p:cNvSpPr/>
          <p:nvPr/>
        </p:nvSpPr>
        <p:spPr>
          <a:xfrm>
            <a:off x="5257800" y="4876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8" name=""/>
          <p:cNvSpPr/>
          <p:nvPr/>
        </p:nvSpPr>
        <p:spPr>
          <a:xfrm>
            <a:off x="6705720" y="4876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9" name=""/>
          <p:cNvSpPr/>
          <p:nvPr/>
        </p:nvSpPr>
        <p:spPr>
          <a:xfrm>
            <a:off x="4724280" y="51055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1676520" y="563868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"/>
          <p:cNvSpPr/>
          <p:nvPr/>
        </p:nvSpPr>
        <p:spPr>
          <a:xfrm>
            <a:off x="6172200" y="5105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4724280" y="54864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"/>
          <p:cNvSpPr/>
          <p:nvPr/>
        </p:nvSpPr>
        <p:spPr>
          <a:xfrm>
            <a:off x="7543800" y="4952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6172200" y="5334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06:45:02Z</dcterms:created>
  <dc:creator>gom</dc:creator>
  <dc:description/>
  <dc:language>en-US</dc:language>
  <cp:lastModifiedBy>gom</cp:lastModifiedBy>
  <dcterms:modified xsi:type="dcterms:W3CDTF">2005-10-21T12:58:17Z</dcterms:modified>
  <cp:revision>23</cp:revision>
  <dc:subject/>
  <dc:title>PowerPoint 프레젠테이션</dc:title>
</cp:coreProperties>
</file>